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644-D15E-4065-BADE-40362E25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80C-30B6-45B2-BA9E-F9040C1D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8F2-6A5D-45DE-8CE1-CA936D20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810-4C98-4313-A9A5-A195AC7D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EAF-F1A8-4274-BAB6-CC2CB21C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D13-B9E0-4C59-A4A1-4E4B1645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DFF-233E-490D-97DB-EFB8C932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996-628C-4737-960B-DA1EE0DE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999-AE0D-44FF-8D27-7E9F07F9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51B-C843-4DC3-AE7E-F703D995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697-7D11-48E5-B9D5-2F07A46B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8A6-FCD8-401F-A516-B265A8CC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ff4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AE34-2D8A-4AC5-AA39-F011DBF6BC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ele-zakharo@yandex.ru" TargetMode="External"/><Relationship Id="rId2" Type="http://schemas.openxmlformats.org/officeDocument/2006/relationships/hyperlink" Target="mailto:juliyaafonina@yandex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24.jpe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b.ru/" TargetMode="External"/><Relationship Id="rId2" Type="http://schemas.openxmlformats.org/officeDocument/2006/relationships/hyperlink" Target="http://markonmedia.com/" TargetMode="External"/><Relationship Id="rId3" Type="http://schemas.openxmlformats.org/officeDocument/2006/relationships/hyperlink" Target="http://popularsci.net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65708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торая жизнь лазерных дис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57800" y="3363840"/>
            <a:ext cx="606888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у выполн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енина Диана, ученица 4 «б»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ите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харова Елена Николаев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 дополнительного образован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ацкая Юлия Юрьев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803680" y="330120"/>
            <a:ext cx="67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трозаводского городского о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редняя общеобразовательная школа №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289080" y="3005280"/>
            <a:ext cx="448308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09480" y="431280"/>
            <a:ext cx="10972800" cy="59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енина Диана, ученица 4 «Б» класс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«Средняя школа №11»  г. Петрозаводс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ите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харова Е.Н., 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«Средняя школа №11» г. Петрозаводс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 дополнительного образов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1"/>
              </a:rPr>
              <a:t>ele-zakharo@yandex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ацкая Ю.Ю., учитель инфор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«Средняя школа №11» г. Петрозаводс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2"/>
              </a:rPr>
              <a:t>juliyaafonina@yandex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09680" y="325440"/>
            <a:ext cx="1056312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ростом и развитием городов увеличивается количество отходов, промышленных и бытовых выбросы. В последние годы возрастает количество офисных отходов и оргтех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делать с такими отходами как лазерные диск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шей работе мы решили рассмотреть, как можно использовать отслужившие дис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bicenter.ru/s_images/14118199778592.jpg"/>
          <p:cNvPicPr/>
          <p:nvPr/>
        </p:nvPicPr>
        <p:blipFill>
          <a:blip r:embed="rId1"/>
          <a:stretch/>
        </p:blipFill>
        <p:spPr>
          <a:xfrm>
            <a:off x="9333000" y="3562200"/>
            <a:ext cx="2355840" cy="23497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304920" y="2711520"/>
            <a:ext cx="849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л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можно сделать с отслужившими дис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комство со способами вторичного использования лазерных д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393840" y="4776840"/>
            <a:ext cx="878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71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историю появления лазерных дис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71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сти анкет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71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ложить способы вторичного использования лазерных д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кетир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120" y="851040"/>
            <a:ext cx="68310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анкетировании участвовали  96 челове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льзуетесь ли Вы лазерными дисками?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а» - 6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ет» - 3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Что Вы делаете со старыми дисками?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ыкидываю» - 7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тдаю на переработку» - 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аю дисками «вторую жизнь» - 2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tonar-shop.ru/4217-large_default/prod-13712.jpg"/>
          <p:cNvPicPr/>
          <p:nvPr/>
        </p:nvPicPr>
        <p:blipFill>
          <a:blip r:embed="rId1"/>
          <a:stretch/>
        </p:blipFill>
        <p:spPr>
          <a:xfrm>
            <a:off x="8764560" y="630360"/>
            <a:ext cx="2681280" cy="26812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430200" y="4067280"/>
            <a:ext cx="1123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няя семья имеет около 114 компакт-дисков. Почти 85% дисков выбрасы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77720" y="4603680"/>
            <a:ext cx="1099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акт-диски содержат различные вредные вещества, и поэтому они загрязняют окружающую сре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жде чем выбросить диски необходимо подумать о возможности переработки компакт-д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85920" y="409680"/>
            <a:ext cx="1112328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акт-диски содержат различные загрязняющие вещества, что делают их идеальными кандидатами в загрязнении окружающей среды.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ому необходимо рассмотреть возможности переработки компакт-дисков, прежде по выбросить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kz.all.biz/img/kz/service_catalog/92743.jpeg"/>
          <p:cNvPicPr/>
          <p:nvPr/>
        </p:nvPicPr>
        <p:blipFill>
          <a:blip r:embed="rId1"/>
          <a:stretch/>
        </p:blipFill>
        <p:spPr>
          <a:xfrm>
            <a:off x="9648720" y="2589120"/>
            <a:ext cx="2181240" cy="21812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573120" y="26319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городе Петрозаводске  предприятий по переработке компакт-дисков  в нашем городе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chudo-tur.ru/d/593698/d/%D0%BF%D0%B5%D1%82%D1%80%D0%BE%D0%B7%D0%B0%D0%B2%D0%BE%D0%B4%D1%81%D0%BA.jpg"/>
          <p:cNvPicPr/>
          <p:nvPr/>
        </p:nvPicPr>
        <p:blipFill>
          <a:blip r:embed="rId2"/>
          <a:stretch/>
        </p:blipFill>
        <p:spPr>
          <a:xfrm>
            <a:off x="2154240" y="3935520"/>
            <a:ext cx="49878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16080"/>
            <a:ext cx="10972800" cy="25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тилизировать старые компакт-диски?</a:t>
            </a:r>
            <a:br>
              <a:rPr sz="2700"/>
            </a:b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имерная переработк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Лазерные диски изготавливают из поликарбоната, который пригоден для вторичного использования. Данное вещество применяют для получения пластика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ереработка спасет около 50 миллионов компакт-дисков от долгого загнивания на свалке. Все ненужные диски должны попасть на зав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8"/>
          <p:cNvSpPr/>
          <p:nvPr/>
        </p:nvSpPr>
        <p:spPr>
          <a:xfrm>
            <a:off x="378000" y="2868480"/>
            <a:ext cx="77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что делать если нет возможности утилизировать лазерные диски на специальном предприят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9"/>
          <p:cNvSpPr/>
          <p:nvPr/>
        </p:nvSpPr>
        <p:spPr>
          <a:xfrm>
            <a:off x="3337920" y="3970440"/>
            <a:ext cx="56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можем дискам дать вторую жизн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переработанный cd диск"/>
          <p:cNvPicPr/>
          <p:nvPr/>
        </p:nvPicPr>
        <p:blipFill>
          <a:blip r:embed="rId1"/>
          <a:stretch/>
        </p:blipFill>
        <p:spPr>
          <a:xfrm>
            <a:off x="10137600" y="2936880"/>
            <a:ext cx="1465560" cy="14079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2"/>
          <p:cNvSpPr/>
          <p:nvPr/>
        </p:nvSpPr>
        <p:spPr>
          <a:xfrm>
            <a:off x="3152880" y="4729320"/>
            <a:ext cx="87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ители компании Fujitsu рассказали , что из дисков можно собирать качественные, а главное экологичные, ноутбуки.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Из испорченных дисков китайцы решили построить здание. В строительстве будет задействовано порядка миллиона компакт-д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markonmedia.com/uploads/posts/2013-01/pererabotka_dvd.jpg"/>
          <p:cNvPicPr/>
          <p:nvPr/>
        </p:nvPicPr>
        <p:blipFill>
          <a:blip r:embed="rId2"/>
          <a:stretch/>
        </p:blipFill>
        <p:spPr>
          <a:xfrm>
            <a:off x="393840" y="4861080"/>
            <a:ext cx="233172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G:\DCIM\104NIKON\DSCN2945.JPG"/>
          <p:cNvPicPr/>
          <p:nvPr/>
        </p:nvPicPr>
        <p:blipFill>
          <a:blip r:embed="rId1"/>
          <a:stretch/>
        </p:blipFill>
        <p:spPr>
          <a:xfrm>
            <a:off x="189000" y="189000"/>
            <a:ext cx="217620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G:\DCIM\104NIKON\DSCN2942.JPG"/>
          <p:cNvPicPr/>
          <p:nvPr/>
        </p:nvPicPr>
        <p:blipFill>
          <a:blip r:embed="rId2"/>
          <a:stretch/>
        </p:blipFill>
        <p:spPr>
          <a:xfrm>
            <a:off x="2459160" y="204840"/>
            <a:ext cx="2185920" cy="123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G:\DCIM\104NIKON\DSCN2941.JPG"/>
          <p:cNvPicPr/>
          <p:nvPr/>
        </p:nvPicPr>
        <p:blipFill>
          <a:blip r:embed="rId3"/>
          <a:stretch/>
        </p:blipFill>
        <p:spPr>
          <a:xfrm>
            <a:off x="4778280" y="220680"/>
            <a:ext cx="2190960" cy="123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G:\DCIM\104NIKON\DSCN2940.JPG"/>
          <p:cNvPicPr/>
          <p:nvPr/>
        </p:nvPicPr>
        <p:blipFill>
          <a:blip r:embed="rId4"/>
          <a:stretch/>
        </p:blipFill>
        <p:spPr>
          <a:xfrm>
            <a:off x="7142040" y="223920"/>
            <a:ext cx="2265480" cy="1272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G:\DCIM\104NIKON\DSCN2937.JPG"/>
          <p:cNvPicPr/>
          <p:nvPr/>
        </p:nvPicPr>
        <p:blipFill>
          <a:blip r:embed="rId5"/>
          <a:stretch/>
        </p:blipFill>
        <p:spPr>
          <a:xfrm>
            <a:off x="9574200" y="220680"/>
            <a:ext cx="2281320" cy="128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G:\DCIM\104NIKON\DSCN2934.JPG"/>
          <p:cNvPicPr/>
          <p:nvPr/>
        </p:nvPicPr>
        <p:blipFill>
          <a:blip r:embed="rId6"/>
          <a:stretch/>
        </p:blipFill>
        <p:spPr>
          <a:xfrm>
            <a:off x="220680" y="1585800"/>
            <a:ext cx="2144520" cy="1324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G:\DCIM\104NIKON\DSCN2930.JPG"/>
          <p:cNvPicPr/>
          <p:nvPr/>
        </p:nvPicPr>
        <p:blipFill>
          <a:blip r:embed="rId7"/>
          <a:stretch/>
        </p:blipFill>
        <p:spPr>
          <a:xfrm>
            <a:off x="2560680" y="1623960"/>
            <a:ext cx="2106720" cy="1355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G:\DCIM\104NIKON\DSCN2929.JPG"/>
          <p:cNvPicPr/>
          <p:nvPr/>
        </p:nvPicPr>
        <p:blipFill>
          <a:blip r:embed="rId8"/>
          <a:stretch/>
        </p:blipFill>
        <p:spPr>
          <a:xfrm>
            <a:off x="4840200" y="1623960"/>
            <a:ext cx="2143080" cy="1324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G:\DCIM\104NIKON\DSCN2925.JPG"/>
          <p:cNvPicPr/>
          <p:nvPr/>
        </p:nvPicPr>
        <p:blipFill>
          <a:blip r:embed="rId9"/>
          <a:stretch/>
        </p:blipFill>
        <p:spPr>
          <a:xfrm>
            <a:off x="7189920" y="1608120"/>
            <a:ext cx="2270160" cy="1324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G:\DCIM\104NIKON\DSCN2923.JPG"/>
          <p:cNvPicPr/>
          <p:nvPr/>
        </p:nvPicPr>
        <p:blipFill>
          <a:blip r:embed="rId10"/>
          <a:stretch/>
        </p:blipFill>
        <p:spPr>
          <a:xfrm>
            <a:off x="2631960" y="3149640"/>
            <a:ext cx="2160720" cy="126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G:\DCIM\104NIKON\DSCN2913.JPG"/>
          <p:cNvPicPr/>
          <p:nvPr/>
        </p:nvPicPr>
        <p:blipFill>
          <a:blip r:embed="rId11"/>
          <a:stretch/>
        </p:blipFill>
        <p:spPr>
          <a:xfrm>
            <a:off x="9601200" y="1655640"/>
            <a:ext cx="2239920" cy="12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G:\DCIM\104NIKON\DSCN2914.JPG"/>
          <p:cNvPicPr/>
          <p:nvPr/>
        </p:nvPicPr>
        <p:blipFill>
          <a:blip r:embed="rId12"/>
          <a:stretch/>
        </p:blipFill>
        <p:spPr>
          <a:xfrm>
            <a:off x="252360" y="3121200"/>
            <a:ext cx="2238480" cy="12301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4"/>
          <p:cNvSpPr/>
          <p:nvPr/>
        </p:nvSpPr>
        <p:spPr>
          <a:xfrm>
            <a:off x="5281560" y="5375160"/>
            <a:ext cx="65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предлагаем свой способ вторичного использования лазерных дис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G:\DCIM\104NIKON\DSCN2918.JPG"/>
          <p:cNvPicPr/>
          <p:nvPr/>
        </p:nvPicPr>
        <p:blipFill>
          <a:blip r:embed="rId13"/>
          <a:stretch/>
        </p:blipFill>
        <p:spPr>
          <a:xfrm>
            <a:off x="4917960" y="3201840"/>
            <a:ext cx="2184480" cy="1229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G:\DCIM\104NIKON\DSCN2922.JPG"/>
          <p:cNvPicPr/>
          <p:nvPr/>
        </p:nvPicPr>
        <p:blipFill>
          <a:blip r:embed="rId14"/>
          <a:stretch/>
        </p:blipFill>
        <p:spPr>
          <a:xfrm>
            <a:off x="7283520" y="3218040"/>
            <a:ext cx="2128680" cy="1196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G:\DCIM\104NIKON\DSCN2924.JPG"/>
          <p:cNvPicPr/>
          <p:nvPr/>
        </p:nvPicPr>
        <p:blipFill>
          <a:blip r:embed="rId15"/>
          <a:stretch/>
        </p:blipFill>
        <p:spPr>
          <a:xfrm>
            <a:off x="9683640" y="3075120"/>
            <a:ext cx="2078280" cy="2171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Юлия\Downloads\фото диски\фото диски\DSCN2973.JPG"/>
          <p:cNvPicPr/>
          <p:nvPr/>
        </p:nvPicPr>
        <p:blipFill>
          <a:blip r:embed="rId16"/>
          <a:stretch/>
        </p:blipFill>
        <p:spPr>
          <a:xfrm>
            <a:off x="547560" y="4430880"/>
            <a:ext cx="1387440" cy="2174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Юлия\Downloads\фото диски\фото диски\DSCN2974.JPG"/>
          <p:cNvPicPr/>
          <p:nvPr/>
        </p:nvPicPr>
        <p:blipFill>
          <a:blip r:embed="rId17"/>
          <a:stretch/>
        </p:blipFill>
        <p:spPr>
          <a:xfrm>
            <a:off x="2427120" y="4581360"/>
            <a:ext cx="239724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68280" y="1208160"/>
            <a:ext cx="8680320" cy="50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ведя итоги анкетирования, мы увидели, что многие пользуются лазерными дисками, и большинство  людей ненужные диски выбрасывают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рассмотрели и предложили способы вторичного использования лазерных дисков и сделали следующие вывод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не загрязняем окружающую сред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продлеваем срок использования лазерных дис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вая различные изделия своими руками, мы получаем удовольств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экономим семейный бюджет, создавая своими руками необычных поделки, которые могут порадовать родных и близких.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Юлия\Downloads\фото диски\фото диски\DSCN2976.JPG"/>
          <p:cNvPicPr/>
          <p:nvPr/>
        </p:nvPicPr>
        <p:blipFill>
          <a:blip r:embed="rId1"/>
          <a:stretch/>
        </p:blipFill>
        <p:spPr>
          <a:xfrm>
            <a:off x="9223200" y="1671480"/>
            <a:ext cx="25686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93640" y="212400"/>
            <a:ext cx="10972800" cy="11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не рубить елки в лесу и не нарушать экологию, мы решили из оставшихся собранных дисков изготовить ел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F:\DCIM\100NIKON\DSCN3097.JPG"/>
          <p:cNvPicPr/>
          <p:nvPr/>
        </p:nvPicPr>
        <p:blipFill>
          <a:blip r:embed="rId1"/>
          <a:stretch/>
        </p:blipFill>
        <p:spPr>
          <a:xfrm>
            <a:off x="561960" y="1403280"/>
            <a:ext cx="2749680" cy="518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F:\новый год 4б 2016\Новый год 2016\DSC04376.JPG"/>
          <p:cNvPicPr/>
          <p:nvPr/>
        </p:nvPicPr>
        <p:blipFill>
          <a:blip r:embed="rId2"/>
          <a:stretch/>
        </p:blipFill>
        <p:spPr>
          <a:xfrm>
            <a:off x="8924760" y="1482840"/>
            <a:ext cx="3009960" cy="5182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F:\новый год 4б 2016\Новый год 2016\DSC04414.JPG"/>
          <p:cNvPicPr/>
          <p:nvPr/>
        </p:nvPicPr>
        <p:blipFill>
          <a:blip r:embed="rId3"/>
          <a:stretch/>
        </p:blipFill>
        <p:spPr>
          <a:xfrm>
            <a:off x="3594240" y="2190600"/>
            <a:ext cx="5076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599840"/>
            <a:ext cx="109728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тика: учебник для 5 класса / Л.Л. Босова, В.Ю. Босова. – М.: БИНОМ. Лаборатория знаний, 2013. – 184 с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тика. Дополнительные материалы к учебнику Информатика: учебник для 5 класса / Л.Л. Босова, В.Ю. Босова. – М.: БИНОМ. Лаборатория знаний, 2013. – 184 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тика и ИКТ: учебник для 8 класса / Н.Д. Угринович. – М.: БИНОМ. Лаборатория знаний, 2008. – 178 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нциклопедия для детей. Том 19. Экология / Глав. ред. В.А. Володин. – М.: Аванта+, 2001. – 448 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познаю мир: Дет. Энцикл.: Экология / Авт.-сост. А.Е. Чижевский;  Худож. В.В. Николаев, А.В. Кардашук, Е.В. Гальдяева. Под общ. ред. О.Г. Хинн – М.: ООО «Фирма «Издательство АСТ», 1998. – 432 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жедневный журнал. [Электронный ресурс] – Режим доступа. – URL: </a:t>
            </a:r>
            <a:r>
              <a:rPr b="0" lang="ru-RU" sz="22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1"/>
              </a:rPr>
              <a:t>http://fb.r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ания «Маркон». [Электронный ресурс] – Режим доступа. – URL: </a:t>
            </a:r>
            <a:r>
              <a:rPr b="0" lang="ru-RU" sz="22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2"/>
              </a:rPr>
              <a:t>http://markonmedia.co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ая наука. [Электронный ресурс] – Режим доступа. – URL: </a:t>
            </a:r>
            <a:r>
              <a:rPr b="0" lang="ru-RU" sz="22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3"/>
              </a:rPr>
              <a:t>http://popularsci.n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1T11:21:34Z</dcterms:created>
  <dc:creator>pupil</dc:creator>
  <dc:description/>
  <dc:language>en-US</dc:language>
  <cp:lastModifiedBy>Алёна</cp:lastModifiedBy>
  <dcterms:modified xsi:type="dcterms:W3CDTF">2016-01-27T18:39:40Z</dcterms:modified>
  <cp:revision>79</cp:revision>
  <dc:subject/>
  <dc:title>Презентация PowerPoint</dc:title>
</cp:coreProperties>
</file>